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79C80-00F2-466F-9AC9-8CC8FC918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7D1D5-101F-46C2-8E6B-B9D459AAE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2BDF7-A2B4-47BE-81B4-2B9F7D831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612F6-8AC7-47A3-931E-A49009024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C5DBDE-796E-4BAA-A72C-763D64132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EE6FD-5A8C-4E22-BF05-44F213C91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67D52-8E78-4125-A038-FD7CD536B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D2133-0736-4BBC-B739-C183C0FCF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2161D-F603-454C-92CC-34603EF5B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9CDB6-89C9-4EDB-B9C1-B15908AF1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3966C-E872-48C8-8082-E02DBE360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342A6-3B2F-4281-B149-64992851A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010FC-D904-40F7-9979-459844BFA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DE2FD-3508-4CD5-9D9D-89FA564BB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16789-116D-4F3D-B8B8-CF8404142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9C894E-19F4-4FC9-BC46-1E2D9D8A01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1B5E5-89F3-4E4C-AAB3-61CF4680C9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0674E-3E80-49B2-89E7-B8AD63022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A0D1E-C3A3-44FF-9A7F-97287020D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DFC52-73CA-486B-8F3A-29C42523D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6E1A5-116C-4F90-8BCE-4ACDDB2EC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AD105-1F99-4373-8DB6-22F6351A2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FE526-B99C-4196-A941-8B2622917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0B74C-E3B5-4EF6-83DB-7E7954118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8E460-71A1-43E4-A7E0-6CEEE722E56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2AF0-EFCB-4282-BEA3-D84EE773141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litencyc.com/php/stopics.php?rec=true&amp;UID=542"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Importance of Words</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he Imagist Movemen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
            </a:r>
            <a:r>
              <a:rPr b="1" lang="en-US" sz="3600" spc="-1" strike="noStrike">
                <a:solidFill>
                  <a:srgbClr val="006666"/>
                </a:solidFill>
                <a:latin typeface="Arial"/>
              </a:rPr>
              <a:t>Imagism”: A definition</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Clarity of expression through the use of precise verbal ima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movement was popular from 1910-1917</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in Tenets of Imagism</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economic in your word use—every word in your poem must have a specific use. Otherwise…get rid of 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direct. Don’t talk around the ide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Compose in sequence of the musical phrase.” In other words, use free verse instead of sticking to a specific rhyth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me Imagist Poets</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zra Pou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D. (Hilda Dolitt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my Low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lliam Carlos William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of Imagist Poetry</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 much depends</a:t>
            </a:r>
            <a:br>
              <a:rPr sz="2400"/>
            </a:br>
            <a:r>
              <a:rPr b="0" lang="en-US" sz="2400" spc="-1" strike="noStrike">
                <a:solidFill>
                  <a:srgbClr val="003366"/>
                </a:solidFill>
                <a:latin typeface="Arial"/>
              </a:rPr>
              <a:t>upo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d wheel</a:t>
            </a:r>
            <a:br>
              <a:rPr sz="2400"/>
            </a:br>
            <a:r>
              <a:rPr b="0" lang="en-US" sz="2400" spc="-1" strike="noStrike">
                <a:solidFill>
                  <a:srgbClr val="003366"/>
                </a:solidFill>
                <a:latin typeface="Arial"/>
              </a:rPr>
              <a:t>barrow</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lazed with rain</a:t>
            </a:r>
            <a:br>
              <a:rPr sz="2400"/>
            </a:br>
            <a:r>
              <a:rPr b="0" lang="en-US" sz="2400" spc="-1" strike="noStrike">
                <a:solidFill>
                  <a:srgbClr val="003366"/>
                </a:solidFill>
                <a:latin typeface="Arial"/>
              </a:rPr>
              <a:t>wate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side the white</a:t>
            </a:r>
            <a:br>
              <a:rPr sz="2400"/>
            </a:br>
            <a:r>
              <a:rPr b="0" lang="en-US" sz="2400" spc="-1" strike="noStrike">
                <a:solidFill>
                  <a:srgbClr val="003366"/>
                </a:solidFill>
                <a:latin typeface="Arial"/>
              </a:rPr>
              <a:t>chicken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iam Carlos Williams “Red Wheelbarrow”</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s on Poetry</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poetry is somewhat imagist. Words are important because poetry is usually short. Poets are artists who use words to paint pictures in our minds. If we can understand the imagery in a poem, we will usually come closer to understanding the poem as a whol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ark, Robert. “Imagism.” </a:t>
            </a:r>
            <a:r>
              <a:rPr b="0" i="1" lang="en-US" sz="2800" spc="-1" strike="noStrike">
                <a:solidFill>
                  <a:srgbClr val="003366"/>
                </a:solidFill>
                <a:latin typeface="Arial"/>
              </a:rPr>
              <a:t>The Literary Encyclopedia</a:t>
            </a:r>
            <a:r>
              <a:rPr b="0" lang="en-US" sz="2800" spc="-1" strike="noStrike">
                <a:solidFill>
                  <a:srgbClr val="003366"/>
                </a:solidFill>
                <a:latin typeface="Arial"/>
              </a:rPr>
              <a:t>. </a:t>
            </a:r>
            <a:r>
              <a:rPr b="0" lang="en-US" sz="2800" spc="-1" strike="noStrike" u="sng">
                <a:solidFill>
                  <a:srgbClr val="003366"/>
                </a:solidFill>
                <a:uFillTx/>
                <a:latin typeface="Arial"/>
                <a:hlinkClick r:id="rId1"/>
              </a:rPr>
              <a:t>http://www.litencyc.com/php/stopics.php?rec=true&amp;UID=542</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lliams, William Carlos. “Red Wheelbarrow.” </a:t>
            </a:r>
            <a:r>
              <a:rPr b="0" i="1" lang="en-US" sz="2800" spc="-1" strike="noStrike">
                <a:solidFill>
                  <a:srgbClr val="003366"/>
                </a:solidFill>
                <a:latin typeface="Arial"/>
              </a:rPr>
              <a:t>Norton Anthology of American Literature</a:t>
            </a:r>
            <a:r>
              <a:rPr b="0" lang="en-US" sz="2800" spc="-1" strike="noStrike">
                <a:solidFill>
                  <a:srgbClr val="003366"/>
                </a:solidFill>
                <a:latin typeface="Arial"/>
              </a:rPr>
              <a:t>. Ed. Nina Baym. 2001.</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5T22:30:20Z</dcterms:created>
  <dc:creator>Heather Chan</dc:creator>
  <dc:description/>
  <dc:language>en-US</dc:language>
  <cp:lastModifiedBy>Beth</cp:lastModifiedBy>
  <dcterms:modified xsi:type="dcterms:W3CDTF">2012-04-24T23:05:17Z</dcterms:modified>
  <cp:revision>8</cp:revision>
  <dc:subject/>
  <dc:title>The Importance of Words</dc:title>
</cp:coreProperties>
</file>